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4.xml.rels" ContentType="application/vnd.openxmlformats-package.relationships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62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F37EE-FC81-453A-B7DA-86DE8586B0C0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3DB7E-C16D-42D5-9D80-CC839422AA2D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A72075-2E5B-4782-A053-224F871C835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99B44E-7FF7-4403-8E9A-29D21F127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8BF8A5-3A37-438D-AB53-B99B2996E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0A8D76-BDDE-4593-A00F-D54B3C9252C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109055-F016-4051-A5C3-1F5E069BA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8602CB-AE37-4705-B025-AA8F1CC5D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3F5A5B-8161-4C4C-BCEB-803EAE84B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BB3417-C11E-4446-8D74-C1AFDA65A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243FC2-7717-4DCD-BE46-FC3C492C7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8E4966-B7E2-4877-99E5-5829CAEE8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35AFF-2A77-47AC-AC04-DC2B58B1A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002276-6E2D-4B95-AE35-92D087258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>
              <a:gd name="textAreaLeft" fmla="*/ 0 w 9156960"/>
              <a:gd name="textAreaRight" fmla="*/ 9156960 w 915696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115A3-1FBD-468C-9A3E-9C381E27795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5600"/>
                  <a:gd name="textAreaBottom" fmla="*/ 346320 h 34560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000"/>
                  <a:gd name="textAreaBottom" fmla="*/ 360720 h 36000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78920" y="2276640"/>
            <a:ext cx="8209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六章  围术期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前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与疾病相关的辅助检查，并完善常规术前检查的结果，例如血、尿、粪便常规，凝血功能，血型及交叉配血试验，血液生化，心电图检查，影像学检查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前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般资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现病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既往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前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焦虑、恐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恐惧手术、担忧手术风险、经济负担较重等有关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失调（低于机体的需要量） 与禁食或摄入不足、机体消耗增加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知识缺乏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缺乏与手术、麻醉、术前准备等有关的知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前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一般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和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环境与休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协助完善术前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适应性训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道准备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前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一般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肠道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控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道清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留置胃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前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一般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输血和补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区皮肤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日晨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前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特殊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不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血管疾病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高血压者应继续服用降压药物，避免戒断综合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血压过高者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(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80/100mmHg)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应选用适合的降压药物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心律失常者给予抗心律失常治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急性心肌梗塞者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个月内不宜择期手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心力衰竭者最好在心力衰竭控制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周后再进行手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前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特殊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功能障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对吸烟者，术前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周停止吸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鼓励患者进行呼吸训练，可以减少肺部并发症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阻塞性肺功能不全及哮喘，应及时用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对痰液黏稠者，行雾化吸入或服用药物稀释痰液，利于咳出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对急性呼吸道感染者，择期手术应推迟到治愈后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周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对重度肺功能不全合并感染者，采取综合措施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前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特殊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肝疾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肾疾病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糖尿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手术中期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复述围术期护理概念、手术分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说出各种常见手术区皮肤准备范围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描述手术室的分区、术中无菌操作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列出术后常见不适及并发症的预防和处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中期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布局与环境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室位置和布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位置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布局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洁净区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准洁净区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洁净区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建筑要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中期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布局与环境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间装备与设施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间内只放置必需用物且位置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洁净手术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空气净化技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洁净手术室的净化标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洁净手术室适用范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中期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布局与环境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室环境管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室管理制度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清洁与消毒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中期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室物品消毒灭菌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布类用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布单类均采用高压蒸气灭菌，保存时间夏季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天，冬季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天，过期要重新灭菌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敷料类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中期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室物品消毒灭菌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器械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基本器械，采用高压蒸气灭菌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精密仪器首选环氧乙烷灭菌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缝针及缝线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室常用的缝针及缝线多在出厂时已分别包装并灭菌，术中直接使用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中期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室物品消毒灭菌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引流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管状引流管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乳胶片引流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纱布引流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中期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患者的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核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体位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仰卧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侧卧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膀胱截石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俯卧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中期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患者的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区皮肤消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消毒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0.5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碘伏纱块涂擦手术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碘过敏者可选用其他皮肤消毒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消毒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以切口为中心向四周涂擦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0c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的区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若为肛门、会阴部手术或感染切口，则自手术区外周向感染切口、会阴或肛门处涂擦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中期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患者的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区铺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铺皮肤巾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块无菌巾遮盖切口周围，又称切口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铺手术中单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块无菌中单分别铺在切口的上、下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铺手术洞单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中期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人员的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般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臂的刷洗和消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外科手消毒是指手术人员通过机械性洗刷及化学消毒方法，去除并杀灭双手及前臂的暂居菌和部分常驻菌，达到消毒皮肤目的，通常也称为外科洗手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肥皂水刷手法和外科手消毒揉搓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概括手术前患者生理方面的一般常规准备和特殊准备要点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比较巡回护士和器械护士的职责要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解释术中无菌操作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概括手术后患者一般护理要点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运用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评估手术前期、中期和后期患者并为其制订护理计划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人员的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穿无菌手术衣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穿对开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衣法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5" name="Picture 2" descr=""/>
          <p:cNvPicPr/>
          <p:nvPr/>
        </p:nvPicPr>
        <p:blipFill>
          <a:blip r:embed="rId1"/>
          <a:stretch/>
        </p:blipFill>
        <p:spPr>
          <a:xfrm>
            <a:off x="3641760" y="2205000"/>
            <a:ext cx="5486400" cy="42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人员的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穿无菌手术衣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全遮盖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衣穿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9" name="Picture 2" descr=""/>
          <p:cNvPicPr/>
          <p:nvPr/>
        </p:nvPicPr>
        <p:blipFill>
          <a:blip r:embed="rId1"/>
          <a:stretch/>
        </p:blipFill>
        <p:spPr>
          <a:xfrm>
            <a:off x="3876840" y="2133720"/>
            <a:ext cx="526716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人员的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戴无菌手套法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闭合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03" name="Picture 2" descr=""/>
          <p:cNvPicPr/>
          <p:nvPr/>
        </p:nvPicPr>
        <p:blipFill>
          <a:blip r:embed="rId1"/>
          <a:stretch/>
        </p:blipFill>
        <p:spPr>
          <a:xfrm>
            <a:off x="1619280" y="3068640"/>
            <a:ext cx="7103880" cy="30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人员的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戴无菌手套法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开放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07" name="Picture 2" descr=""/>
          <p:cNvPicPr/>
          <p:nvPr/>
        </p:nvPicPr>
        <p:blipFill>
          <a:blip r:embed="rId1"/>
          <a:stretch/>
        </p:blipFill>
        <p:spPr>
          <a:xfrm>
            <a:off x="1763640" y="3068640"/>
            <a:ext cx="585936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2400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人员的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脱手术衣及手套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脱手术衣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由他人协助脱手术衣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自行脱手术衣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脱手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戴手套的手抓取另一手的手套外面，翻转脱下；用已脱手套的拇指伸入另一手套的里面，翻转脱下。注意保护清洁的手不被手套外面污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6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今天早晨，该患者被推入手术室，在全身麻醉下接受肝癌切除术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在手术过程中，巡回护士和器械护士分别要承担哪些职责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配合及术中无菌操作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室护士主要岗位与配合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器械护士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提前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5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钟洗手、穿手术衣和戴无菌手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清点核对物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正确传递用物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保护器械和用物整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配合抢救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标本管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包扎和整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配合及术中无菌操作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室护士主要岗位与配合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巡回护士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前访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前物品准备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核对患者信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安置体位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清点核对物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中配合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后整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配合及术中无菌操作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中无菌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明确无菌范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物品无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护皮肤切口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准确传递物品和调换位置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污染手术的隔离技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减少空气污染、保持洁净效果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配合及术中无菌操作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无菌器械台的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巡回护士用手打开第一层包布（双层），注意只能接触包布的外面，从里向外展开，手臂不可跨越无菌区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无菌持物钳打开第二层包布，先对侧后近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器械护士穿好无菌手术衣和戴好无菌手套后，用手打开第三层包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六章 围术期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围术期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1" lang="en-US" sz="3200" spc="-1" strike="noStrike">
                <a:solidFill>
                  <a:srgbClr val="046ca6"/>
                </a:solidFill>
                <a:latin typeface="华文新魏"/>
              </a:rPr>
              <a:t>perioperative period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指患者从确定手术治疗时起，到与这次手术有关的治疗基本结束的这段时期。包括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个阶段：手术前期、手术期、手术后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6-1C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该患者的手术顺利完成，安返病房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问题：该患者回到病房后，主要护理内容有哪些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患者术后恢复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命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切口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引流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手术创伤、切口疼痛有关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液不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术中出血、失液或术后禁食、呕吐、引流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低效性呼吸型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手术后患者卧床、活动量减少、疼痛、呼吸运动受限和使用镇静剂等因素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失调（低于机体需要量） 与术后禁食、分解代谢旺盛及摄入不足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术后出血、感染、深静脉血栓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般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交接患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安置卧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与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腹部手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般先进流质，后逐步过渡到半流质、普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部手术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肠道手术后一般禁食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天，待肠蠕动恢复、肛门排气后开始进水，逐步过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切口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切口的愈合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甲级愈合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乙级愈合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丙级愈合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切口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拆除缝线时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一般头、面、颈部手术后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拆线；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下腹部、会阴部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拆线；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胸部、上腹部、背部、臀部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9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拆线；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四肢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拆线（近关节处可适当延长），减张缝线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拆线，必要时可间隔拆线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引流管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妥善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记录引流液颜色、性质、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引流管通畅，无打折、扭曲、堵塞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熟悉各种引流管的拔管指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六章 围术期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围术期护理（</a:t>
            </a:r>
            <a:r>
              <a:rPr b="1" lang="en-US" sz="3200" spc="-1" strike="noStrike">
                <a:solidFill>
                  <a:srgbClr val="046ca6"/>
                </a:solidFill>
                <a:latin typeface="华文新魏"/>
              </a:rPr>
              <a:t>perioperative nursing car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指在围术期为患者提供全程、整体的护理。其目的是加强术前、术后整个治疗过程中患者的身心护理，通过充分的术前准备、有效的护理措施和患者的积极配合，达到满意的治疗效果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活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休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病房安静，保证患者休息和充足的睡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许可下尽量鼓励患者早期下床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活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根据患者的病情和耐受程度，鼓励其早期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不适的观察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切口疼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遵医嘱给予镇静、止痛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协助患者更换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鼓励患者表达内心焦虑情绪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指导患者正确按摩、放松、听音乐等非药物止痛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不适的观察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恶心、呕吐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记录呕吐时间及呕吐物的量、颜色、性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协助取合适体位，头偏向一侧，防止发生吸入性肺炎或窒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遵医嘱使用镇静、镇吐药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不适的观察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发热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患者最常见的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外科手术热（吸收热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鼓励患者多翻身、尽早下床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必要时肌注新斯的明促进肠蠕动恢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警惕机械性肠梗阻等并发症出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不适的观察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呃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压迫眶上缘、抽吸胃内积气和积液、遵医嘱给予镇静或解痉药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顽固性呃逆应警惕吻合口或十二指肠残端漏、膈下积液或感染的可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不适的观察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潴留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诱导排尿，如听流水声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协助改变体位坐于床边或站立排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遵医嘱应用药物、针灸等治疗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如上述措施均无效时，在无菌操作下实施导尿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并发症的观察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出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常发生在术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检查切口敷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严密观察生命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患者有无烦躁、心率增快、血压下降、尿量减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并发症的观察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切口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前控制血糖水平、纠正贫血、加强营养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缝合时彻底止血、防止残留血块、异物或无效腔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中操作及术后换药时严格执行无菌操作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早期切口感染者，勤换敷料、微波照射切口、合理使用抗生素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并发症的观察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切口裂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手术前加强营养支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手术缝合用减张缝线，术后延长拆线时间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在麻醉效果好、腹壁松弛下缝合切口避免强行缝合导致腹膜等组织撕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切口外适当用腹带或胸带包扎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及时处理引起腹内压增高的因素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密切观察切口情况，预防切口感染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若切口完全裂开者，安慰患者做好心理护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六章 围术期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类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目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诊断性手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根治性手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姑息性手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时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择期手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限期手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症手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250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并发症的观察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肺部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前戒烟，行有效咳嗽及深呼吸锻炼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全麻手术拔管前吸净支气管内分泌物，术后平卧头偏向一侧，防呕吐物和口腔分泌物误吸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胸、腹带包扎或固定时，松紧适宜避免限制呼吸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保持病室适宜温、湿度，鼓励患者多饮水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鼓励患者深呼吸、吹气球或咳嗽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对咳嗽无力或害怕用力咳嗽者，在胸骨切迹上方用手指按压刺激气管，促进咳嗽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250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并发症的观察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路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前训练床上排便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后指导患者尽量自主排尿和病情许可时多饮水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尽早拔出留置导尿管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预防和及时处理尿潴留是预防尿路感染的主要措施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对尿路感染者，鼓励多饮水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250920" y="112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并发症的观察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深静脉血栓形成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deep venous thrombosis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DV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情许可下，鼓励患者早期下床活动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高危患者，下肢用弹性绷带或穿弹力袜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避免久坐和跷二郎腿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使用高渗性或刺激性强的药物应稀释后输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血液高凝状态者，给予抗凝药物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若发生深静脉血栓者，患肢制动、抬高、禁止按摩、遵医嘱行溶栓治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250920" y="1268280"/>
            <a:ext cx="861048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恢复期患者摄入合理均衡的饮食，避免生硬及辛辣刺激性食物休息与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药指导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需继续治疗者，指导患者遵医嘱正确服药，定期复查肝肾功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250920" y="1268280"/>
            <a:ext cx="861048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休息与活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证充足睡眠，活动量应从小到大、循序渐进，根据自身体质及术后恢复情况来制订活动计划，不易过度疲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就诊和随访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般患者于手术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个月到门诊随访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，了解机体的康复程度及切口愈合情况。出现特殊情况时，及时到医院就诊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围术期护理包括术前护理、术中护理和术后护理。手术分为择期手术、限期手术、急诊手术三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前期患者的护理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对手术前患者应做好①心理护理；②一般准备，如饮食与营养、环境与休息、协助完善术前检查、术前适应性训练、呼吸道准备、胃肠道准备、输血和补液、预防感染、手术区皮肤准备、术日晨护理等；③特殊准备，主要针对合并糖尿病、高血压等特殊情况患者进行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中期患者的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室的布局、设置、分区（非洁净区、准洁净区、洁净区）都有严格要求。手术人员必须遵守手术室的管理和消毒灭菌制度。患者的手术体位由手术部位所决定，术前应严格做好手术区皮肤消毒和手术区铺单。参加手术人员必须遵循外科手消毒、穿脱无菌手术衣、戴无菌手套和脱手套的方法要求。术前要严格认真核对患者各项信息，避免错误发生。手术室器械护士和巡回护士做好手术配合，遵循术中无菌操作原则，认真清点手术器械，确保手术顺利完成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后期患者的护理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包括：①一般护理：交接患者、安置体位、病情观察、饮食与营养、切口护理、引流管护理、活动、心理护理；②术后常见不适的观察和护理，如切口疼痛、恶心呕吐、发热、腹胀、呃逆、尿潴留等的护理；③术后并发症的观察和护理，如出血、切口感染、切口裂开、肺部感染、尿路感染、深静脉血栓形成等的预防和处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手术前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6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右上腹持续性胀痛不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月入院。自述患糖尿病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，服药控制血糖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检：肝右肋下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c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可触及，质硬，边界不清，肝区叩击痛明显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：肝右后叶回声不均匀增强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常规：白细胞、红细胞和血小板均减少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该患者被明确诊断为肝癌，拟在全麻下行肝癌切除术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①该患者手术前护理评估内容有哪些？②术前护理的重点内容是什么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前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患者所患疾病的临床表现，进行全面的体格检查，了解有无心血管系统、呼吸系统、消化系统或泌尿系统等重要系统功能异常的表现，以判断所患疾病的严重程度和患者对手术的耐受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微软用户</cp:lastModifiedBy>
  <dcterms:modified xsi:type="dcterms:W3CDTF">2015-08-11T03:36:05Z</dcterms:modified>
  <cp:revision>99</cp:revision>
  <dc:subject/>
  <dc:title>内科护理学</dc:title>
</cp:coreProperties>
</file>